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dt" idx="13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05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14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 type="sldNum" idx="15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E699-E114-43E4-BEFA-7AEC5AF4362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ymbol zastępczy numeru slajdu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80A7-88DE-4FCA-96A5-6F497DF6A2E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W skład podgrupy PRIME ds. aktów wykonawczych wchodzą przedstawiciele zarządców infrastruktury, organizacje EIM oraz CER,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Øresundsbro Konsortiet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jak również Komisja Europejska (DG MOV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Posiedzenia podgrupy podzielone są na 2 sesje: poranną z udziałem zarządców i przedstawicieli organizacji EIM oraz CER, jak i popołudniową,       w której, oprócz wyżej wymienionych stron, udział dodatkowo bierze przedstawiciel Komisji Europejskiej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Prace podgrupy dedykowane są aktom wykonawczym do Dyrektywy 34/2012  w sprawi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kosztów bezpośredn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umów ramowy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stawek za dostęp do infrastruktury zróżnicowanych ze względu na emisję hała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stawek za dostęp do infrastruktury zróżnicowanych ze względu na ERT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ymbol zastępczy numeru slajdu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8903-4C83-4C09-8D3B-8C7E57D973A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Z inicjatywy PRIME, 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3 marca b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. odbyły się pierwsze wspólne warsztaty EIM / CER / KE nt. kosztów bezpośredni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Celem spotkania było zebranie pytań od zarządców w zakresie sposobu kalkulacji kosztów bezpośrednich. Według uczestników część informacji podanych przez KE nie odzwierciedla prawidłowo stanu faktycznego, w szczególności kosztów związanych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ze sterowaniem ruchem, kosztów związanych z obsługą i realizacją wniosków o alokację zdolności przepustowej, kosztów energii elektrycznej i zasilania sieci trakcyjnej, czy też kosztów informacji w zakresie obsługi przyznanej przepustowości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Ważne dla PLK:</a:t>
            </a:r>
            <a:r>
              <a:rPr b="0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 przedstawiciel KE, na pytanie PLK, odnośnie części kosztów prowadzenia ruchu, które mogą być zaliczane do kosztów bezpośrednich, poinformował, iż koszty te należy odzyskiwać na trzy sposoby: podniesienie marży, zwiększenie dotacji państwowej, redukcję kosztó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Komentarz: postulaty EIM do „discussion paper” są zgodne ze stanowiskiem PL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Kolejne posiedzenie ws. kosztów bezpośrednich odbyło się w dniu 15 października br., w Bruksel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Po spotkaniu podgrupy, w dniu 16 października, EIM przekazało do swoich członków </a:t>
            </a:r>
            <a:r>
              <a:rPr b="0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discussion pap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 KE zawierający komentarz EIM, w tym uwagę PLK dot. procentowego progu uwzględniania w kosztach bezpośrednich kosztów związanych z zatrudnionymi pracownikami (</a:t>
            </a:r>
            <a:r>
              <a:rPr b="0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operational and signaling staff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), do poszczególnych artykułó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KE uważa koszty krańcowe za koszty bezpośrednie. (</a:t>
            </a:r>
            <a:r>
              <a:rPr b="0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PLK za koszty bezpośrednie przyjmuje koszty zmienn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ymbol zastępczy numeru slajdu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800F-B214-4FB3-9466-45760AAA718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Z inicjatywy PRIME, 3 marca br. odbyły się pierwsze wspólne warsztaty EIM / CER / KE nt. kosztów bezpośredni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Celem spotkania było zebranie pytań od zarządców w zakresie sposobu kalkulacji kosztów bezpośrednich. Według uczestników część informacji podanych przez KE nie odzwierciedla prawidłowo stanu faktycznego, w szczególności kosztów związanych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ze sterowaniem ruchem, kosztów związanych z obsługą i realizacją wniosków o alokację zdolności przepustowej, kosztów energii elektrycznej i zasilania sieci trakcyjnej, czy też kosztów informacji w zakresie obsługi przyznanej przepustowości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Ważne dla PLK:</a:t>
            </a:r>
            <a:r>
              <a:rPr b="0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 przedstawiciel KE, na pytanie PLK, odnośnie części kosztów prowadzenia ruchu, które mogą być zaliczane do kosztów bezpośrednich, poinformował, iż koszty te należy odzyskiwać na trzy sposoby: podniesienie marży, zwiększenie dotacji państwowej, redukcję kosztó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Komentarz: postulaty EIM do „discussion paper” są zgodne ze stanowiskiem PLK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Kolejne posiedzenie ws. kosztów bezpośrednich odbyło się w dniu 15 października br., w Bruksel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Po spotkaniu podgrupy, w dniu 16 października, EIM przekazało do swoich członków </a:t>
            </a:r>
            <a:r>
              <a:rPr b="0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discussion pap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 KE zawierający komentarz EIM, w tym uwagę PLK dot. procentowego progu uwzględniania w kosztach bezpośrednich kosztów związanych z zatrudnionymi pracownikami (</a:t>
            </a:r>
            <a:r>
              <a:rPr b="0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operational and signaling staff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), do poszczególnych artykułó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KE uważa koszty krańcowe za koszty bezpośrednie. (</a:t>
            </a:r>
            <a:r>
              <a:rPr b="0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PLK za koszty bezpośrednie przyjmuje koszty zmienn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ymbol zastępczy numeru slajdu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0D16-56CE-4614-8DFD-625031D337D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Posiedzenie podgrupy odbyło się w dniu 22 lipca b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Zgodnie z art. 42 dyrektywy 34/2012/UE przewiduje się </a:t>
            </a: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żliwość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 stosowania przez zarządców infrastruktury umów ramowych dotyczących alokacji infrastruktury kolejowej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PLK nie posiada jednakże doświadczenia w tym zakresi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Podczas lipcowego posiedzenia podgrupy PRIME przedstawiciel Komisji Europejskiej zapowiedział wprowadzenie nowej metody określania pułapów przepustowości, wobec sprzeciwu uczestników dotyczącego sztywnych poziomó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W odniesieniu do propozycji KE zawartych w „</a:t>
            </a:r>
            <a:r>
              <a:rPr b="0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discussion pap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” ważne jest, aby pułapy przepustowości dla umów ramowych ustalać indywidualnie dla każdego przypadku przez krajowy regulator rynk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ymbol zastępczy numeru slajdu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7FB3-504D-4789-8E7B-B67018C8E41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Posiedzenie podgrupy odbyło się w dniu 11 września b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Bardzo ważne jest podkreślenie dobrowolności stosowania tego systemu oraz zaznaczenie, że to państwa członkowskie powinny wziąć odpowiedzialność za wdrażanie i administrowanie system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Odnośnie ram czasowych (</a:t>
            </a:r>
            <a:r>
              <a:rPr b="0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time fram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) chodzi o propozycję przez ile lat system ten ma obowiązywać. KE chciałaby ustalić takie ramy na lata 2016-2021. Zarządcy uważają, że powinna być zapewniona odpowiednia ilość czasu, również na przygotowania. Ramy czasowe powinny być zatem bardziej elastycz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ymbol zastępczy numeru slajdu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2C41-6229-4422-96C9-BC2591CD1EC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Posiedzenie podgrupy odbyło się w dniu 18 lipca b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Nie ma jeszcze „</a:t>
            </a:r>
            <a:r>
              <a:rPr b="0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discussion paper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Dyskutowane są ogólne możliwości: systemu bonus / malus, bilansowania przychodów zarządcy, synchronizacji instalacji ERT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KE informuje o obowiązkowym stosowaniu zapisów regulacji dla korytarzy ERT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Ważne dla PLK</a:t>
            </a:r>
            <a:r>
              <a:rPr b="0" i="1" lang="pl-PL" sz="1200" spc="-1" strike="noStrike">
                <a:solidFill>
                  <a:srgbClr val="000000"/>
                </a:solidFill>
                <a:latin typeface="Arial"/>
                <a:ea typeface="Arial"/>
              </a:rPr>
              <a:t>: zapewnienie bilansowania przychodó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ymbol zastępczy numeru slajdu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4440-D6C5-48FF-AD98-1679B001C35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 drugiego i trzeciego punktu: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changes made to the Direct Costs draft following the meeting in early 2014, when Frank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ost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ok on board costs of signallers, wheel flats and a few other detailed inclu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ymbol zastępczy numeru slajdu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C108-86A7-44F9-A7CE-FE539E317B3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ymbol zastępczy numeru slajdu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3241-0F10-4CD7-89A2-8A17108A8F7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284A-715C-4B14-9C76-D2DCCF47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195E-C128-4A99-BCC9-CB52C7D4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D57124-DE8D-4F3D-B0E0-B3DD1CF2773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608D07-184A-4751-8574-1BB71F0D45A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A539EC-39E9-4F34-9882-F3822C101CF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A4A3D1-F467-41BC-820B-77D5ECAFC99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BDBBBC-B5E4-489D-A89E-26E04B84AD4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E87604-248F-4CA8-8714-4FF8D139E7F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F0B293-4F6A-4B51-A3B1-0B60BC9FD64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0FA136-602D-466D-9C1B-31D4C186750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967183-0FA7-4F0C-8FAF-273F634BA6D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4CA20-8FB7-417F-B3C4-A3F15863F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3BE-126E-421C-BC88-1FF05AFF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DC1D2-4BA2-4B61-9D7F-EF512956CC7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95C90-FEFF-475F-AB3E-2E1814C8BDB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D718F-7C17-4FFD-BB11-310567080B2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41D2D-00EE-4D2A-A0A9-AA8BBE46A38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926DB-3903-49EA-B774-1065CCD4BCF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32B6F-4619-4466-9AC3-D2105E07892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13171-32EA-4E4F-B8C9-AD4AF694A19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1E696-6B8E-48B4-8577-71BCFE43DD4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9FED4-75F7-45B2-8E44-70AE1D0F8A1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189FE-F0B7-4557-AF82-0F55EAB54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A51-33E6-4E0B-8357-7A275B62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9CFE1-0282-4AD5-BE3C-2A8A2A349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3EAA5-C4A5-4059-838F-AC012C7BAE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4C5E87-79D4-47D0-B7F4-802281D146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122ED-BD7D-42C8-88B5-66C3F03630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35DDA-9620-46F5-A941-6AD2BF4C05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D5498-F4F1-4A53-8FF7-736EC43E25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38AD4-9508-44AD-9946-64CA0BDFD7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88F64-CC9B-4216-9F8E-1AA7AFC43E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977C-AB46-47AA-BA51-7DB0CFA7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0F483-BA6A-4800-9B60-315CDC7237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6485B-7D41-4C88-9447-06226C4D66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91189-C18C-4D1D-A984-A85E9EF7A7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2956FD-7F7C-4B55-8061-57EA812C61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56A56-8EBA-4403-AE3F-3F956F66B0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719E0-F95B-48A2-B95E-8EAF21D833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BA8F5-7300-4334-BF23-D2D2F4ACB63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76A9A-B344-40C4-B1B1-3B0739AD6C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847B5-BD92-4172-9236-0786E8E215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0B3D8-12C2-475D-BE92-D1BE2738B6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8715-93C4-4C9B-B853-83C9FA73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407ED-D1F3-4C2C-83BD-DAA1C9D8C4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2559E-1AF7-42EF-B22F-20E48F9135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C9FF4-2849-4FD3-9BBB-C8234BADB97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F3A7E-6ACB-4F7B-887F-A2B0CD8BA7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523C1-FF4E-4CBB-BB6E-D3ECF0592A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440CE-75DF-49FE-A6E6-B672BF896B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C815E-91FF-4BE3-96E7-F57360B473D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2D2D-4FBA-4054-A3A7-1BA7D9640B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1260-090B-4AD3-A63F-C7DC013F3B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5803-2AE9-4CEE-9E87-C33F6151D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4D3-437E-40C0-B91A-F6DD77DD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3916-5F65-4500-8560-7E428AC7167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1B29-71DC-400A-8EA0-8A696ECADBC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6608-448B-490E-9262-85486414EF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2048-3A20-4769-AD4A-5E31379902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E55F-8F22-44CC-9D9D-312FB5E162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09DE-C8B3-4832-8C08-90AE676F4F5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A810-7B32-407E-BF3B-BD8C862EC4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D144-990F-4770-B882-D5C688E2D9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937B-4D59-4833-B310-DCE1123A6FE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5DC540-FE1E-43F6-83CD-FE76FD761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D1F-1E2C-4FD2-BD49-D335D012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7B6294-7243-4D78-B147-11912FD543E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A38B71-019F-4D19-8D76-BA335A086B9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4F2EFB-A930-41B9-A64B-C1FF0929AA3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57352D-73E2-4731-A77B-C00ECBCF539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36B610-E76B-417C-BF95-4A059F97DAD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5D0694-0F2C-4385-9ABA-CA3DBCC27C5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CB00EC-5743-4019-91BE-30EBA9F25A7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AFD5E3-99F8-494D-90B2-9AC25AE3A7D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EF169E-6C5A-467A-A667-910697968EC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F4D4C4-2205-4B86-99F8-A18BCA532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DB98-53B5-4E64-BB9F-201EB80B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43D04D-A27D-40A7-91F3-5C582CAD14E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EA1C6-7D77-43BA-99E8-779683BA3F1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8E87B-2CF9-4CD8-B770-C73C8468962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C7CBDC-48F3-4DD5-8CCC-A138A3B3E21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75AB4B-2C9C-4924-92AD-80B01659F9B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BFBF22-778F-46F5-81FD-4FCA2D4BC97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D9073-9116-4854-9520-0DC7F6BD014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4E33D-8B7C-483B-BA2F-0B51D69D5C7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AD1E6D-DBB1-4F0F-8168-49872440CF1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71E9E-7571-4F49-ABEA-6CAC70EBE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612-0EE8-4CE3-8953-38C004BD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55842-6EFF-4E7B-92B5-20299F57DD7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49B98-1EED-486D-A974-CD8672CAE7C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6B4AC-CCC2-4502-A903-D616F1F2F46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5B722-0BF1-4731-BA64-442DC67AB5C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A20C9-4631-4A7A-B5BA-9341F59F1BF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EC46A-CFA2-45A1-B0DA-D8813F98E6A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05BE-75E7-4BCD-8330-3CE0F8E1EBE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824F0-F8BD-4916-ADA3-86DC7CBAB0E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71EDD-4769-48EF-A4AA-69FC99497C2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FEDEE-4060-4F86-9A21-25FB3D1DF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944E-05EC-4A76-BBA2-3321893D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E261F-D6B3-4185-9DBE-7FECADB5F52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7DCF7-1F80-4B35-A95E-4B46C95A3A9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59ED0-AE39-4C17-92D6-9839FC9BEF4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75ED7-799B-4F3E-ADB3-96F1537DECB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BDEC2-26AD-451F-89EF-6F8F6773A8F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13C408-3753-4269-8403-17C19662690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DDFABB-8128-4171-9FE1-D5D5559F76E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BF5618-47AD-4BBB-A768-A3A7B7DE75C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CCB314-C30C-4208-A1C0-2293A36D78D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F541B9-7844-4530-AC19-AC036A5A7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A59C-E74B-4EC9-A337-2BAECE47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CD0BF3-5127-44BA-BFC1-83F3A5F57E9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F5C054-F248-4842-8DD8-61262BB5255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34559D-5F33-4C4C-AE67-6BF0F6DB461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306701-45B7-492B-931A-207DE60C391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F9C246-F005-4191-A98C-8698CAEC3AA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8EFE83-563A-4E24-A998-847BF78B0BE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8C676A-FE0A-4976-A0DF-42B43162EF7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7C42AD-06DC-40E0-9413-45D9D169C97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215D0A-A836-4DEC-BCCA-A7A60D9ECAF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8D3121-746C-4337-A10B-440D7A846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DB62-B847-467A-9382-8319C38EF62A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00240"/>
          </a:xfrm>
          <a:prstGeom prst="rect">
            <a:avLst/>
          </a:prstGeom>
          <a:ln w="0">
            <a:noFill/>
          </a:ln>
        </p:spPr>
      </p:pic>
      <p:pic>
        <p:nvPicPr>
          <p:cNvPr id="368" name="Obraz 7" descr=""/>
          <p:cNvPicPr/>
          <p:nvPr/>
        </p:nvPicPr>
        <p:blipFill>
          <a:blip r:embed="rId3"/>
          <a:stretch/>
        </p:blipFill>
        <p:spPr>
          <a:xfrm>
            <a:off x="222120" y="260280"/>
            <a:ext cx="1511280" cy="43992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7E31-8519-430D-8042-6950DE0AF1BE}" type="slidenum">
              <a:rPr b="0" lang="pl-P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2944-F665-4C54-82DB-36961969DDFF}" type="slidenum">
              <a:rPr b="0" lang="pl-P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00240"/>
          </a:xfrm>
          <a:prstGeom prst="rect">
            <a:avLst/>
          </a:prstGeom>
          <a:ln w="0">
            <a:noFill/>
          </a:ln>
        </p:spPr>
      </p:pic>
      <p:pic>
        <p:nvPicPr>
          <p:cNvPr id="81" name="Obraz 7" descr=""/>
          <p:cNvPicPr/>
          <p:nvPr/>
        </p:nvPicPr>
        <p:blipFill>
          <a:blip r:embed="rId3"/>
          <a:stretch/>
        </p:blipFill>
        <p:spPr>
          <a:xfrm>
            <a:off x="222120" y="260280"/>
            <a:ext cx="1511280" cy="439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08CD-50CE-4917-BCFC-34EA1F7FEA6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00240"/>
          </a:xfrm>
          <a:prstGeom prst="rect">
            <a:avLst/>
          </a:prstGeom>
          <a:ln w="0">
            <a:noFill/>
          </a:ln>
        </p:spPr>
      </p:pic>
      <p:pic>
        <p:nvPicPr>
          <p:cNvPr id="122" name="Obraz 7" descr=""/>
          <p:cNvPicPr/>
          <p:nvPr/>
        </p:nvPicPr>
        <p:blipFill>
          <a:blip r:embed="rId3"/>
          <a:stretch/>
        </p:blipFill>
        <p:spPr>
          <a:xfrm>
            <a:off x="222120" y="260280"/>
            <a:ext cx="1511280" cy="439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3218-86DF-4B32-88D9-25B573C9D03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00240"/>
          </a:xfrm>
          <a:prstGeom prst="rect">
            <a:avLst/>
          </a:prstGeom>
          <a:ln w="0">
            <a:noFill/>
          </a:ln>
        </p:spPr>
      </p:pic>
      <p:pic>
        <p:nvPicPr>
          <p:cNvPr id="163" name="Obraz 7" descr=""/>
          <p:cNvPicPr/>
          <p:nvPr/>
        </p:nvPicPr>
        <p:blipFill>
          <a:blip r:embed="rId3"/>
          <a:stretch/>
        </p:blipFill>
        <p:spPr>
          <a:xfrm>
            <a:off x="222120" y="260280"/>
            <a:ext cx="1511280" cy="4399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774F-A38C-4C4B-9C7A-974DCF1215FC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00240"/>
          </a:xfrm>
          <a:prstGeom prst="rect">
            <a:avLst/>
          </a:prstGeom>
          <a:ln w="0">
            <a:noFill/>
          </a:ln>
        </p:spPr>
      </p:pic>
      <p:pic>
        <p:nvPicPr>
          <p:cNvPr id="204" name="Obraz 7" descr=""/>
          <p:cNvPicPr/>
          <p:nvPr/>
        </p:nvPicPr>
        <p:blipFill>
          <a:blip r:embed="rId3"/>
          <a:stretch/>
        </p:blipFill>
        <p:spPr>
          <a:xfrm>
            <a:off x="222120" y="260280"/>
            <a:ext cx="1511280" cy="4399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9F50-A093-4343-A955-84CF13682248}" type="slidenum">
              <a:rPr b="0" lang="pl-P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00240"/>
          </a:xfrm>
          <a:prstGeom prst="rect">
            <a:avLst/>
          </a:prstGeom>
          <a:ln w="0">
            <a:noFill/>
          </a:ln>
        </p:spPr>
      </p:pic>
      <p:pic>
        <p:nvPicPr>
          <p:cNvPr id="245" name="Obraz 7" descr=""/>
          <p:cNvPicPr/>
          <p:nvPr/>
        </p:nvPicPr>
        <p:blipFill>
          <a:blip r:embed="rId3"/>
          <a:stretch/>
        </p:blipFill>
        <p:spPr>
          <a:xfrm>
            <a:off x="222120" y="260280"/>
            <a:ext cx="1511280" cy="4399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465C-3C96-4F72-849C-EC34ED9605F6}" type="slidenum">
              <a:rPr b="0" lang="pl-P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00240"/>
          </a:xfrm>
          <a:prstGeom prst="rect">
            <a:avLst/>
          </a:prstGeom>
          <a:ln w="0">
            <a:noFill/>
          </a:ln>
        </p:spPr>
      </p:pic>
      <p:pic>
        <p:nvPicPr>
          <p:cNvPr id="286" name="Obraz 7" descr=""/>
          <p:cNvPicPr/>
          <p:nvPr/>
        </p:nvPicPr>
        <p:blipFill>
          <a:blip r:embed="rId3"/>
          <a:stretch/>
        </p:blipFill>
        <p:spPr>
          <a:xfrm>
            <a:off x="222120" y="260280"/>
            <a:ext cx="1511280" cy="4399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F183-6867-427F-96FC-F084724C2BBC}" type="slidenum">
              <a:rPr b="0" lang="pl-P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Obraz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00240"/>
          </a:xfrm>
          <a:prstGeom prst="rect">
            <a:avLst/>
          </a:prstGeom>
          <a:ln w="0">
            <a:noFill/>
          </a:ln>
        </p:spPr>
      </p:pic>
      <p:pic>
        <p:nvPicPr>
          <p:cNvPr id="327" name="Obraz 7" descr=""/>
          <p:cNvPicPr/>
          <p:nvPr/>
        </p:nvPicPr>
        <p:blipFill>
          <a:blip r:embed="rId3"/>
          <a:stretch/>
        </p:blipFill>
        <p:spPr>
          <a:xfrm>
            <a:off x="222120" y="260280"/>
            <a:ext cx="1511280" cy="4399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A314-5280-4D06-941E-0568EDDF7F42}" type="slidenum">
              <a:rPr b="0" lang="pl-PL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700000" y="4436640"/>
            <a:ext cx="61196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PRIME subgroup 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ing 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708000" y="5445000"/>
            <a:ext cx="5248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lang="pl-P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i="1" lang="pl-PL" sz="1800" spc="-1" strike="noStrike">
                <a:solidFill>
                  <a:srgbClr val="898989"/>
                </a:solidFill>
                <a:latin typeface="Arial"/>
                <a:ea typeface="Arial"/>
              </a:rPr>
              <a:t>Edyta Jaszczuk-Jezier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i="1" lang="pl-P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i="1" lang="pl-PL" sz="1800" spc="-1" strike="noStrike">
                <a:solidFill>
                  <a:srgbClr val="898989"/>
                </a:solidFill>
                <a:latin typeface="Arial"/>
                <a:ea typeface="Arial"/>
              </a:rPr>
              <a:t>Director of Strategy Depar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i="1" lang="pl-PL" sz="1800" spc="-1" strike="noStrike">
                <a:solidFill>
                  <a:srgbClr val="898989"/>
                </a:solidFill>
                <a:latin typeface="Arial"/>
                <a:ea typeface="Arial"/>
              </a:rPr>
              <a:t>	</a:t>
            </a:r>
            <a:r>
              <a:rPr b="0" i="1" lang="pl-PL" sz="1800" spc="-1" strike="noStrike">
                <a:solidFill>
                  <a:srgbClr val="898989"/>
                </a:solidFill>
                <a:latin typeface="Arial"/>
                <a:ea typeface="Arial"/>
              </a:rPr>
              <a:t>PKP PLK S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8147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urpose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and organisation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of the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39640" y="2276280"/>
            <a:ext cx="81360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he meetings are convened in order to hav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an open and frank discussion to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evelop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implementing act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under Directive 2012/34/EU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, in particular to represent IMs’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approach to the requirements 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f the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cope for discussion: direct costs, ERTMS DTACs, Framework Agreements, Noise DTA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Works organis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orning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session: IMs with EIM/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fternoo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session: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ommission joins for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ope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iscu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Discussing w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itten submissions from IMs unable to attend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the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7595-3FB1-4841-9B82-F4FB8987CDD7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147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irect costs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94920" y="2205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IMs main concer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The need for clearer definition of direc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oposed act is too narrow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nd too little room for flexibility is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The adequacy of a market-can-bear it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rect costs are marginal cost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for the Commission, while IMs have different modalities to calculate direc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Mark-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5C30-8C0F-436D-B0D1-179C8C6BA0CC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8147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irect costs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  <a:ea typeface="Arial"/>
              </a:rPr>
              <a:t>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39640" y="2276280"/>
            <a:ext cx="81360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Discu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 substantial disagreement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among stakeholder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ith the basic principle of charg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only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n the basis of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irec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Some traffic control can be justified as direct costs: 10% of costs related to signaling and traffic managemen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ersonne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has been included to direct costs calc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resholds and figure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ainly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deriv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from the CATRIN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Provision for using econometric mode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Commision’s negative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D747-471C-46C9-B77D-AF71FA36499D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8147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ramework agre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39640" y="2276280"/>
            <a:ext cx="81360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IMs main concer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e ceiling approa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inter alia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 a potential barrier to new ent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urrender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amed by ongoing discussions in SE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he way of defin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d measure capacity, when it should be surrend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Ceilings approach v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parency and competitio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ether the ceiling is line-based or network-wi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-using surrendere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 firm conclusions but ongoing request for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2323-2AC3-49F4-A44D-A42D1AA5EDC0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8147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Noise differentiated track access 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539640" y="2276640"/>
            <a:ext cx="8136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IMs main concer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e financial equilibrium of 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pact on competitiveness of rail fr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ime frame for the syste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Administrative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Discu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rong consensus on the scheme being volun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Holder of information of train compositio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(what % of wagons are sil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waiting next draft of the act for next SE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F32A-78F4-4C15-8EB7-F78EF3DBD36A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8147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ERTMS differentiated track access cha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539640" y="2276280"/>
            <a:ext cx="81360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IMs main concern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he financial equilibrium of IM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Level of incentive structure vs cost of retrofitt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Bonus/malus mode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Discussio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Strong consensus among I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 the business case for retrofitting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s 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a serious challen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he design of the incentive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regarding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 different models (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bonus/malus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 focus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on </a:t>
            </a:r>
            <a:r>
              <a:rPr b="0" i="1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Steer Davies Gleave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Consultation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  <a:ea typeface="Arial"/>
              </a:rPr>
              <a:t> but rather on the principle itsel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AD84-7B37-47FD-8CE7-E3453C703FA3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8147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Outputs an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539640" y="2276280"/>
            <a:ext cx="81360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orum enables IMs a distinct voice in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discuss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with the Com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ear impact demonstrated on details on direct cost, waiting to see on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lies on Commission’s willingness to change – demonstrated on detail but not yet on 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72B2-8F9E-4F0D-A66A-6597DEE94A2F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1280" y="3141360"/>
            <a:ext cx="8146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Arial"/>
                <a:ea typeface="Arial"/>
              </a:rPr>
              <a:t>Thank you for your attantion!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2967-01F8-4914-BB1A-7CC8027C4223}" type="slidenum">
              <a:rPr b="0" lang="pl-P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2T13:15:17Z</dcterms:created>
  <dc:creator>Kamiński Tomasz</dc:creator>
  <dc:description/>
  <dc:language>en-US</dc:language>
  <cp:lastModifiedBy>DG MOVE B2</cp:lastModifiedBy>
  <cp:lastPrinted>2014-10-22T14:54:59Z</cp:lastPrinted>
  <dcterms:modified xsi:type="dcterms:W3CDTF">2014-10-22T14:59:18Z</dcterms:modified>
  <cp:revision>106</cp:revision>
  <dc:subject/>
  <dc:title>Prezentacja programu PowerPoint</dc:title>
</cp:coreProperties>
</file>